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tIns="-45720" bIns="-4572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C Server – Frame 1 iBox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C Server – Data Poi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C Server – Array Data from a Public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C Server - Cli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V File Sample – As Text Only (NoteP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V File Example – Using 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C Server – Standard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8840" y="3829320"/>
            <a:ext cx="8442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" y="382932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960" y="382932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640" y="128736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8080" y="128736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8840" y="382932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640" y="382932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8080" y="382932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63360" y="-360"/>
            <a:ext cx="81802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8840" y="382932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82932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8840" y="3829320"/>
            <a:ext cx="8442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8840" y="3829320"/>
            <a:ext cx="8442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8840" y="382932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82932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3640" y="128736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8080" y="128736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8840" y="382932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3640" y="382932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8080" y="3829320"/>
            <a:ext cx="2718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63360" y="-360"/>
            <a:ext cx="81802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8840" y="382932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960" y="382932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287360"/>
            <a:ext cx="411984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8840" y="3829320"/>
            <a:ext cx="8442360" cy="2320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89000">
              <a:lnSpc>
                <a:spcPct val="95000"/>
              </a:lnSpc>
              <a:spcBef>
                <a:spcPts val="1001"/>
              </a:spcBef>
              <a:buClr>
                <a:srgbClr val="75777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164880">
              <a:lnSpc>
                <a:spcPct val="95000"/>
              </a:lnSpc>
              <a:spcBef>
                <a:spcPts val="1001"/>
              </a:spcBef>
              <a:buClr>
                <a:srgbClr val="7577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43160" indent="-228600">
              <a:lnSpc>
                <a:spcPct val="95000"/>
              </a:lnSpc>
              <a:spcBef>
                <a:spcPts val="1001"/>
              </a:spcBef>
              <a:buClr>
                <a:srgbClr val="5c8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762200" indent="-228600">
              <a:lnSpc>
                <a:spcPct val="95000"/>
              </a:lnSpc>
              <a:spcBef>
                <a:spcPts val="1001"/>
              </a:spcBef>
              <a:buClr>
                <a:srgbClr val="5c8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762200" indent="-22860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762200" indent="-22860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336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8FA5-3BF4-4E34-9837-10E6BA5D1B8C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037120" y="6335640"/>
            <a:ext cx="3508560" cy="401760"/>
            <a:chOff x="5037120" y="6335640"/>
            <a:chExt cx="3508560" cy="40176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7305840" y="6335640"/>
              <a:ext cx="123984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4"/>
            <a:stretch/>
          </p:blipFill>
          <p:spPr>
            <a:xfrm>
              <a:off x="5037120" y="6467400"/>
              <a:ext cx="1890720" cy="195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14080" y="2108160"/>
            <a:ext cx="772956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037120" y="6335640"/>
            <a:ext cx="3508560" cy="401760"/>
            <a:chOff x="5037120" y="6335640"/>
            <a:chExt cx="3508560" cy="4017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7305840" y="6335640"/>
              <a:ext cx="123984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5037120" y="6467400"/>
              <a:ext cx="1890720" cy="1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777a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75777a"/>
              </a:solidFill>
              <a:latin typeface="Arial"/>
            </a:endParaRPr>
          </a:p>
          <a:p>
            <a:pPr lvl="2" marL="635040" indent="123840" algn="ctr">
              <a:lnSpc>
                <a:spcPct val="90000"/>
              </a:lnSpc>
              <a:spcBef>
                <a:spcPts val="675"/>
              </a:spcBef>
              <a:buClr>
                <a:srgbClr val="7577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77a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75777a"/>
              </a:solidFill>
              <a:latin typeface="Arial"/>
            </a:endParaRPr>
          </a:p>
          <a:p>
            <a:pPr lvl="3" marL="1066680" indent="47880" algn="ctr">
              <a:spcBef>
                <a:spcPts val="451"/>
              </a:spcBef>
              <a:buClr>
                <a:srgbClr val="5c81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c81aa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5c81aa"/>
              </a:solidFill>
              <a:latin typeface="Arial"/>
            </a:endParaRPr>
          </a:p>
          <a:p>
            <a:pPr lvl="4" marL="1409760" indent="123840" algn="ctr">
              <a:spcBef>
                <a:spcPts val="451"/>
              </a:spcBef>
              <a:buClr>
                <a:srgbClr val="5c81aa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81aa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c81aa"/>
              </a:solidFill>
              <a:latin typeface="Arial"/>
            </a:endParaRPr>
          </a:p>
          <a:p>
            <a:pPr lvl="5" marL="1409760" indent="123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81aa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c81aa"/>
              </a:solidFill>
              <a:latin typeface="Arial"/>
            </a:endParaRPr>
          </a:p>
          <a:p>
            <a:pPr lvl="6" marL="1409760" indent="123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81aa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c81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15235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21Plus!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1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 Sanz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SV Fil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189000" indent="-189000">
              <a:lnSpc>
                <a:spcPct val="90000"/>
              </a:lnSpc>
              <a:spcBef>
                <a:spcPts val="913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xt-Based (Comma Separated Variab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913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ndard Format Supported By Most Data Bases, Spreadsheets and Many Windows-Based Appl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913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 Data From InTouch Is Available, Plus Arr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913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n Handle Large Number of Data Poi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913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roughput is High, But Not Contempora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18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H="1">
            <a:off x="1104840" y="4767120"/>
            <a:ext cx="533520" cy="0"/>
          </a:xfrm>
          <a:prstGeom prst="line">
            <a:avLst/>
          </a:prstGeom>
          <a:ln w="12600">
            <a:solidFill>
              <a:srgbClr val="c7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Arial"/>
              </a:rPr>
              <a:t>21Plus!</a:t>
            </a:r>
            <a:r>
              <a:rPr b="0" lang="en-US" sz="2900" spc="-1" strike="noStrike">
                <a:solidFill>
                  <a:srgbClr val="ffffff"/>
                </a:solidFill>
                <a:latin typeface="Mistral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lant Layou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4213080"/>
            <a:ext cx="0" cy="587520"/>
          </a:xfrm>
          <a:prstGeom prst="line">
            <a:avLst/>
          </a:prstGeom>
          <a:ln w="38160">
            <a:solidFill>
              <a:srgbClr val="e86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3429000"/>
            <a:ext cx="0" cy="403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0640" y="4213080"/>
            <a:ext cx="112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rk-III Scan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50mc KR-85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4213080"/>
            <a:ext cx="0" cy="381240"/>
          </a:xfrm>
          <a:prstGeom prst="line">
            <a:avLst/>
          </a:prstGeom>
          <a:ln w="38160">
            <a:solidFill>
              <a:srgbClr val="e86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162920" y="3429000"/>
            <a:ext cx="0" cy="403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26800" y="4213080"/>
            <a:ext cx="1283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rk-III Scan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SIR Transmission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4240" y="1774800"/>
            <a:ext cx="1164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mote Network P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219320" y="2747520"/>
            <a:ext cx="0" cy="452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560" y="1771560"/>
            <a:ext cx="994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nager’s Off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191120" y="2747520"/>
            <a:ext cx="0" cy="452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75760" y="37558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C 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4000" y="3755880"/>
            <a:ext cx="53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C 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04840" y="4767120"/>
            <a:ext cx="533520" cy="0"/>
          </a:xfrm>
          <a:prstGeom prst="line">
            <a:avLst/>
          </a:prstGeom>
          <a:ln w="12600">
            <a:solidFill>
              <a:srgbClr val="c7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371600" y="3200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603600"/>
            <a:ext cx="7272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603600"/>
            <a:ext cx="727200" cy="1778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9880" y="1851120"/>
            <a:ext cx="793800" cy="89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1851120"/>
            <a:ext cx="793800" cy="896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00600" y="4594320"/>
            <a:ext cx="1322280" cy="1272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77120" y="4594320"/>
            <a:ext cx="1322280" cy="1272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81480" y="3832200"/>
            <a:ext cx="381240" cy="533520"/>
          </a:xfrm>
          <a:prstGeom prst="rect">
            <a:avLst/>
          </a:prstGeom>
          <a:gradFill rotWithShape="0">
            <a:gsLst>
              <a:gs pos="0">
                <a:srgbClr val="474747"/>
              </a:gs>
              <a:gs pos="100000">
                <a:srgbClr val="000000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755880"/>
            <a:ext cx="380880" cy="533520"/>
          </a:xfrm>
          <a:prstGeom prst="rect">
            <a:avLst/>
          </a:prstGeom>
          <a:gradFill rotWithShape="0">
            <a:gsLst>
              <a:gs pos="0">
                <a:srgbClr val="474747"/>
              </a:gs>
              <a:gs pos="100000">
                <a:srgbClr val="000000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7000" y="4060800"/>
            <a:ext cx="10004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onder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H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/Pentium 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” Color To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indows X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erator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55800" y="2741760"/>
            <a:ext cx="0" cy="458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72200" y="2742840"/>
            <a:ext cx="0" cy="4460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770960" y="2730240"/>
            <a:ext cx="0" cy="469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733920" y="320004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4038480"/>
            <a:ext cx="132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slon540 BT"/>
              </a:rPr>
              <a:t>Network PL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14360" y="232884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slon540 BT"/>
              </a:rPr>
              <a:t>More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94840" y="2428920"/>
            <a:ext cx="95796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slon540 BT"/>
              </a:rPr>
              <a:t>Intra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56600" y="2054160"/>
            <a:ext cx="85248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slon540 BT"/>
              </a:rPr>
              <a:t>Remo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slon540 BT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4160" y="1797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56600" y="2025720"/>
            <a:ext cx="847440" cy="70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3000" y="2608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00240" y="2254320"/>
            <a:ext cx="1322280" cy="493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7720" y="3965400"/>
            <a:ext cx="1332000" cy="45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71600" y="3504960"/>
            <a:ext cx="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3352680"/>
            <a:ext cx="152640" cy="152640"/>
          </a:xfrm>
          <a:prstGeom prst="rect">
            <a:avLst/>
          </a:prstGeom>
          <a:gradFill rotWithShape="0">
            <a:gsLst>
              <a:gs pos="0">
                <a:srgbClr val="474747"/>
              </a:gs>
              <a:gs pos="100000">
                <a:srgbClr val="000000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200400"/>
            <a:ext cx="106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twork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066680" y="3632040"/>
            <a:ext cx="727200" cy="1778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24080" y="4724280"/>
            <a:ext cx="1219320" cy="45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8006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slon540 BT"/>
              </a:rPr>
              <a:t>Serial PL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676160" y="4952880"/>
            <a:ext cx="1447560" cy="0"/>
          </a:xfrm>
          <a:prstGeom prst="line">
            <a:avLst/>
          </a:prstGeom>
          <a:ln w="28440">
            <a:solidFill>
              <a:srgbClr val="009914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9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371600" y="2895480"/>
            <a:ext cx="0" cy="457200"/>
          </a:xfrm>
          <a:prstGeom prst="line">
            <a:avLst/>
          </a:prstGeom>
          <a:ln w="38160">
            <a:solidFill>
              <a:srgbClr val="009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91120" y="2742840"/>
            <a:ext cx="0" cy="174600"/>
          </a:xfrm>
          <a:prstGeom prst="line">
            <a:avLst/>
          </a:prstGeom>
          <a:ln w="38160">
            <a:solidFill>
              <a:srgbClr val="009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143000" y="2742840"/>
            <a:ext cx="0" cy="174600"/>
          </a:xfrm>
          <a:prstGeom prst="line">
            <a:avLst/>
          </a:prstGeom>
          <a:ln w="38160">
            <a:solidFill>
              <a:srgbClr val="009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nternal Communicati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189000" indent="-189000">
              <a:lnSpc>
                <a:spcPct val="90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thernet Ba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C Server uses proprietary protocols to extract data from the iBox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nderware InTouch uses OPC Link as an OPC Client interface to the Server to exchange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twork File Protocol Server used to transfer files between PC and iBox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xternal Communicati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C Lin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C Server / Cli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C to PC Data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LC Link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rial or Networked-Based I/O Servers for InTou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100 I/O Servers Avail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C as Master; PLC as Sl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’t Support Arr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LC Link Configuration Tool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397920" cy="461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C to PC Data Transfe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C Server Can Provide Data to Network-Based Clients Concurrently with Internal Data Handl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SV Files Can Be Produced and Transferred Between PC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DE is supported between InTouch and Many other Windows-Based Applica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63360" y="-360"/>
            <a:ext cx="8180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PC Serve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8840" y="1287360"/>
            <a:ext cx="8442360" cy="4865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COM-Based to allow Data Handling Over the Net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Data From the iBox’s and dBox’s Are Available, Including Arr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Handle Large Number of Data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1001"/>
              </a:spcBef>
              <a:buClr>
                <a:srgbClr val="f51d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roughput is Moder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9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Denis Brotzel</dc:creator>
  <dc:description/>
  <dc:language>en-US</dc:language>
  <cp:lastModifiedBy>Bill Sanzo</cp:lastModifiedBy>
  <cp:lastPrinted>1999-11-24T13:16:02Z</cp:lastPrinted>
  <dcterms:modified xsi:type="dcterms:W3CDTF">2006-10-09T14:42:14Z</dcterms:modified>
  <cp:revision>68</cp:revision>
  <dc:subject/>
  <dc:title>EGS Template</dc:title>
</cp:coreProperties>
</file>